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FE-B626-47B0-AFF0-517708B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CE2-2B7A-47A4-9B12-DC0108A5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927-BBFE-4210-B03B-F017AA03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291-3E4B-49C5-9213-DB50A5D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639-0ADB-4A48-A335-3FBF382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0F0-1DA4-462D-A126-00E6D114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C5E-84D1-400E-91FC-E63CFAA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B55-BF8F-4BE8-BF50-B0DA596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77D-AB78-433A-95F3-6F1883D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CFE-F5C2-43A4-A407-6097C4D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0D5-40B4-4085-B5DA-59BDCBC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B10-434E-4C1F-A870-A91F50A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3E2B-9B53-4EB6-860B-B5D42EB61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840" y="743040"/>
            <a:ext cx="8572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Arial"/>
              </a:rPr>
              <a:t>O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e vais all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Barcel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Argelès-sur-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à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au Portu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aux États-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3810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Qu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vais voy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h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utom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 prin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 vais partir 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 je vais être de retour 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057400" cy="181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220680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cc"/>
                </a:solidFill>
                <a:latin typeface="Arial"/>
              </a:rPr>
              <a:t>Avec qui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2667240" cy="318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a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es 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ec ma classe d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ul/ se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om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8335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b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v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À vé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2324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cc00"/>
                </a:solidFill>
                <a:latin typeface="Arial"/>
              </a:rPr>
              <a:t>Où tu vas lo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ans un ca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ans un hô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Chez des 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380988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Quel temps il va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nei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pleu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faire b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 va faire du 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4576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00ff"/>
                </a:solidFill>
                <a:latin typeface="Arial"/>
              </a:rPr>
              <a:t>Qu’est-ce que tu vas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 visites tour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vé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’accrobran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ch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 ka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2857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6633"/>
                </a:solidFill>
                <a:latin typeface="Arial"/>
              </a:rPr>
              <a:t>Le voyage va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nuy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tig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gn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é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nta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9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u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1735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7:34:50Z</dcterms:created>
  <dc:creator>nombre</dc:creator>
  <dc:description/>
  <dc:language>en-US</dc:language>
  <cp:lastModifiedBy>nombre</cp:lastModifiedBy>
  <dcterms:modified xsi:type="dcterms:W3CDTF">2013-05-26T09:20:22Z</dcterms:modified>
  <cp:revision>5</cp:revision>
  <dc:subject/>
  <dc:title>Diapositiva 1</dc:title>
</cp:coreProperties>
</file>